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9F3-9AFC-4E65-AD5D-3BB8577A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4EA-24D4-4FCA-A4C6-9BE50AF7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737-DC47-4F36-8D8A-82BBC78F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221-4838-4FF6-98E5-5F608232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2B1-FE02-4755-93B6-D936162B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069-0161-47B2-B123-B043B05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B9F-773B-4172-80A3-1336B994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7D2-DFB9-4739-9600-00A30520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88C-0577-41C3-9445-AAB5DEDD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5C3-4EA6-4DDB-85F2-8C402BBD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9AE-2DF4-4E1F-B3A1-B986FE62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2D5-CF20-4C06-A0C9-6CD5CDF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C7A-20B9-4BF0-9AA0-0D29A9020C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Deutsch Kapital 4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atias Rei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eine Gesund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joggen jeden morgen aber ich finde es langweil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esse viel obst und gemuse denn, sie schmects g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t keine alkahol getrun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213372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4419720"/>
            <a:ext cx="1981440" cy="2133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1496880" cy="180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724280"/>
            <a:ext cx="14479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3200400"/>
            <a:ext cx="11527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olfgangs Gesu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finde es nicht gut das du rauch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  <a:ea typeface="Arial"/>
              </a:rPr>
              <a:t>ünters Gesu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 verbiden die sonne ni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24717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ch darf viel rad Fahren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41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 habe kiene </a:t>
            </a:r>
            <a:r>
              <a:rPr b="0" lang="de-DE" sz="4000" spc="-1" strike="noStrike">
                <a:solidFill>
                  <a:srgbClr val="dfd293"/>
                </a:solidFill>
                <a:latin typeface="Arial"/>
              </a:rPr>
              <a:t>Schokolade 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essen, weil sie fett mache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4732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30:06Z</dcterms:created>
  <dc:creator>CUSD220</dc:creator>
  <dc:description/>
  <dc:language>en-US</dc:language>
  <cp:lastModifiedBy>CUSD220</cp:lastModifiedBy>
  <dcterms:modified xsi:type="dcterms:W3CDTF">2012-02-24T18:25:52Z</dcterms:modified>
  <cp:revision>4</cp:revision>
  <dc:subject/>
  <dc:title>Deutsch Kapital 4 Gesund Leben</dc:title>
</cp:coreProperties>
</file>